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gif" ContentType="image/gif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5745-C797-4C9B-8CA3-B92C0D568B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5EBBF-8F0F-467A-8B29-9E1118F6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D77F-78F1-4717-A7C4-868B7A13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D1839-68D7-4047-A331-EA5E60DB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3F23-EF27-4120-AA99-A27405E6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8608-A5C2-4AD2-A9F3-A9828BE6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1E1E-B503-436B-A210-0E8E4B0A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4451-A05F-4957-A077-60BA7428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F97B-07C2-452F-9F26-A21B66A6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5014-EFD1-49C6-BA76-487D997F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C708-AA06-4285-8E9B-8A7120D5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6C10-F2F4-4875-9856-31B23618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37F3D-200F-4992-B5F1-CE943B74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DE5D-52D2-42C7-8888-4D49D074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211A-A004-4193-86BA-8AFB123B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9D0B-78B8-4E46-93FF-BBCFFC65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6C09-86FE-4DE2-926C-A3BD74D5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4AB8-30B5-4A74-97DC-F893904F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1D5B-E2BA-4615-A529-0C18C3A3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49CAE-CBEF-4958-A3AC-366C043E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8F4F-4E73-4237-A5F1-33E0BF8A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2351-1C02-4FB5-A80C-3218D837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663F9-9431-434C-9482-8A83D556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4089-AC9C-4F97-A904-5F7445DB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E5B3-9CEE-4550-A023-1984D24F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04BA-3A03-400F-9690-83DE302247F7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7931-D609-4027-8EB9-78B8F0901738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57400" y="1295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99cc"/>
                </a:solidFill>
                <a:latin typeface="Times New Roman"/>
                <a:ea typeface="隶书"/>
              </a:rPr>
              <a:t>全等图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6629400" y="914400"/>
            <a:ext cx="2209680" cy="1371240"/>
            <a:chOff x="6629400" y="914400"/>
            <a:chExt cx="2209680" cy="1371240"/>
          </a:xfrm>
        </p:grpSpPr>
        <p:sp>
          <p:nvSpPr>
            <p:cNvPr id="266" name=""/>
            <p:cNvSpPr/>
            <p:nvPr/>
          </p:nvSpPr>
          <p:spPr>
            <a:xfrm flipH="1">
              <a:off x="6669000" y="936360"/>
              <a:ext cx="697680" cy="1349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8141040" y="914400"/>
              <a:ext cx="697680" cy="1348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27080" y="936360"/>
              <a:ext cx="813960" cy="1349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629400" y="936360"/>
              <a:ext cx="2209680" cy="1349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79280" y="1341360"/>
            <a:ext cx="68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OC≌△BO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C=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＝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609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39240" y="202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30120" y="164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5068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741520" y="533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2765520"/>
            <a:ext cx="70930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D≌△A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＝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　　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D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＝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4292640"/>
            <a:ext cx="62640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若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C≌△CDA,AB=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　　　　　　　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250320" y="4800600"/>
            <a:ext cx="2891520" cy="1831320"/>
            <a:chOff x="6250320" y="4800600"/>
            <a:chExt cx="2891520" cy="1831320"/>
          </a:xfrm>
        </p:grpSpPr>
        <p:grpSp>
          <p:nvGrpSpPr>
            <p:cNvPr id="279" name=""/>
            <p:cNvGrpSpPr/>
            <p:nvPr/>
          </p:nvGrpSpPr>
          <p:grpSpPr>
            <a:xfrm>
              <a:off x="6400800" y="5105520"/>
              <a:ext cx="2467080" cy="1295280"/>
              <a:chOff x="6400800" y="5105520"/>
              <a:chExt cx="2467080" cy="1295280"/>
            </a:xfrm>
          </p:grpSpPr>
          <p:sp>
            <p:nvSpPr>
              <p:cNvPr id="280" name=""/>
              <p:cNvSpPr/>
              <p:nvPr/>
            </p:nvSpPr>
            <p:spPr>
              <a:xfrm>
                <a:off x="6400800" y="5105520"/>
                <a:ext cx="2467080" cy="1295280"/>
              </a:xfrm>
              <a:prstGeom prst="parallelogram">
                <a:avLst>
                  <a:gd name="adj" fmla="val 47617"/>
                </a:avLst>
              </a:prstGeom>
              <a:noFill/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034040" y="5105520"/>
                <a:ext cx="1292040" cy="12952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6692040" y="484200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50320" y="6172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15920" y="6060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1520" y="480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0" y="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1760760" cy="846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11280" y="765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请填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12000" y="1341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16360" y="198900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87640" y="1916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0360" y="2924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19640" y="36450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80000" y="4508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19640" y="4941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D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0360" y="191772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16360" y="2349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4221000"/>
            <a:ext cx="1225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92360" y="5373720"/>
            <a:ext cx="1224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08720" y="5013360"/>
            <a:ext cx="936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020000" y="2492280"/>
            <a:ext cx="1729440" cy="2016000"/>
            <a:chOff x="7020000" y="2492280"/>
            <a:chExt cx="1729440" cy="2016000"/>
          </a:xfrm>
        </p:grpSpPr>
        <p:sp>
          <p:nvSpPr>
            <p:cNvPr id="302" name=""/>
            <p:cNvSpPr/>
            <p:nvPr/>
          </p:nvSpPr>
          <p:spPr>
            <a:xfrm>
              <a:off x="7812360" y="2779560"/>
              <a:ext cx="648360" cy="129708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020000" y="2492280"/>
              <a:ext cx="1729440" cy="2016000"/>
              <a:chOff x="7020000" y="2492280"/>
              <a:chExt cx="1729440" cy="2016000"/>
            </a:xfrm>
          </p:grpSpPr>
          <p:sp>
            <p:nvSpPr>
              <p:cNvPr id="304" name=""/>
              <p:cNvSpPr/>
              <p:nvPr/>
            </p:nvSpPr>
            <p:spPr>
              <a:xfrm flipH="1">
                <a:off x="7164360" y="2779560"/>
                <a:ext cx="648000" cy="137016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7522920" y="3428640"/>
                <a:ext cx="937080" cy="64764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4360" y="3355920"/>
                <a:ext cx="935640" cy="79200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523280" y="2492280"/>
                <a:ext cx="4334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20000" y="4005000"/>
                <a:ext cx="36036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389080" y="4005000"/>
                <a:ext cx="36036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172720" y="3139920"/>
                <a:ext cx="28764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091280" y="3139920"/>
                <a:ext cx="289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3433680" y="62064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155935"/>
              <a:gd name="adj4" fmla="val 474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61080" y="549360"/>
            <a:ext cx="1871640" cy="574560"/>
          </a:xfrm>
          <a:prstGeom prst="wedgeEllipseCallout">
            <a:avLst>
              <a:gd name="adj1" fmla="val 101907"/>
              <a:gd name="adj2" fmla="val 134805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1bc3"/>
                </a:solidFill>
                <a:latin typeface="Arial"/>
                <a:ea typeface="黑体"/>
              </a:rPr>
              <a:t>公共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35640" y="1052640"/>
            <a:ext cx="914400" cy="9144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836640"/>
            <a:ext cx="914400" cy="9144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03640" y="2205000"/>
            <a:ext cx="2160720" cy="576360"/>
          </a:xfrm>
          <a:prstGeom prst="wedgeEllipseCallout">
            <a:avLst>
              <a:gd name="adj1" fmla="val 81740"/>
              <a:gd name="adj2" fmla="val 83333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1bc3"/>
                </a:solidFill>
                <a:latin typeface="Arial"/>
                <a:ea typeface="黑体"/>
              </a:rPr>
              <a:t>公共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29080" y="5589720"/>
            <a:ext cx="2158920" cy="576000"/>
          </a:xfrm>
          <a:prstGeom prst="wedgeEllipseCallout">
            <a:avLst>
              <a:gd name="adj1" fmla="val 94412"/>
              <a:gd name="adj2" fmla="val -36777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1bc3"/>
                </a:solidFill>
                <a:latin typeface="Arial"/>
                <a:ea typeface="黑体"/>
              </a:rPr>
              <a:t>公共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900000" y="2708280"/>
            <a:ext cx="2736720" cy="1817640"/>
            <a:chOff x="900000" y="2708280"/>
            <a:chExt cx="2736720" cy="1817640"/>
          </a:xfrm>
        </p:grpSpPr>
        <p:grpSp>
          <p:nvGrpSpPr>
            <p:cNvPr id="319" name=""/>
            <p:cNvGrpSpPr/>
            <p:nvPr/>
          </p:nvGrpSpPr>
          <p:grpSpPr>
            <a:xfrm>
              <a:off x="1189080" y="3139920"/>
              <a:ext cx="2158200" cy="1008000"/>
              <a:chOff x="1189080" y="3139920"/>
              <a:chExt cx="2158200" cy="1008000"/>
            </a:xfrm>
          </p:grpSpPr>
          <p:sp>
            <p:nvSpPr>
              <p:cNvPr id="320" name=""/>
              <p:cNvSpPr/>
              <p:nvPr/>
            </p:nvSpPr>
            <p:spPr>
              <a:xfrm>
                <a:off x="1189080" y="3145680"/>
                <a:ext cx="1903320" cy="1002240"/>
              </a:xfrm>
              <a:prstGeom prst="triangle">
                <a:avLst>
                  <a:gd name="adj" fmla="val 11333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0800000">
                <a:off x="1443960" y="3139920"/>
                <a:ext cx="1903320" cy="1002240"/>
              </a:xfrm>
              <a:prstGeom prst="triangle">
                <a:avLst>
                  <a:gd name="adj" fmla="val 11333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1189080" y="270828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0000" y="40053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33440" y="393228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76360" y="275580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405000" y="404640"/>
            <a:ext cx="2719800" cy="2392200"/>
            <a:chOff x="405000" y="404640"/>
            <a:chExt cx="2719800" cy="2392200"/>
          </a:xfrm>
        </p:grpSpPr>
        <p:grpSp>
          <p:nvGrpSpPr>
            <p:cNvPr id="327" name=""/>
            <p:cNvGrpSpPr/>
            <p:nvPr/>
          </p:nvGrpSpPr>
          <p:grpSpPr>
            <a:xfrm>
              <a:off x="405000" y="838080"/>
              <a:ext cx="2719800" cy="1613160"/>
              <a:chOff x="405000" y="838080"/>
              <a:chExt cx="2719800" cy="1613160"/>
            </a:xfrm>
          </p:grpSpPr>
          <p:sp>
            <p:nvSpPr>
              <p:cNvPr id="328" name=""/>
              <p:cNvSpPr/>
              <p:nvPr/>
            </p:nvSpPr>
            <p:spPr>
              <a:xfrm flipH="1" rot="7131600">
                <a:off x="1739160" y="854640"/>
                <a:ext cx="952200" cy="1551600"/>
              </a:xfrm>
              <a:prstGeom prst="triangle">
                <a:avLst>
                  <a:gd name="adj" fmla="val 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4348400">
                <a:off x="838800" y="869040"/>
                <a:ext cx="952200" cy="1551240"/>
              </a:xfrm>
              <a:prstGeom prst="triangle">
                <a:avLst>
                  <a:gd name="adj" fmla="val 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476360" y="4046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00000" y="14126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8360" y="227628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00360" y="225108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68720" y="14126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3080" y="4581360"/>
            <a:ext cx="3705840" cy="2017440"/>
            <a:chOff x="73080" y="4581360"/>
            <a:chExt cx="3705840" cy="2017440"/>
          </a:xfrm>
        </p:grpSpPr>
        <p:sp>
          <p:nvSpPr>
            <p:cNvPr id="336" name=""/>
            <p:cNvSpPr/>
            <p:nvPr/>
          </p:nvSpPr>
          <p:spPr>
            <a:xfrm flipH="1" rot="1989000">
              <a:off x="457200" y="5100480"/>
              <a:ext cx="1631880" cy="566280"/>
            </a:xfrm>
            <a:prstGeom prst="triangle">
              <a:avLst>
                <a:gd name="adj" fmla="val 8119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7553400">
              <a:off x="2209680" y="5295240"/>
              <a:ext cx="1700280" cy="544320"/>
            </a:xfrm>
            <a:prstGeom prst="triangle">
              <a:avLst>
                <a:gd name="adj" fmla="val 8119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1080" y="45813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080" y="501300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41440" y="595152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24360" y="60069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89080" y="60782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13080" y="45813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3781440" y="2771640"/>
            <a:ext cx="518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）已知△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ABC≌△CDA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则ＡＣ边的对应边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51280" y="1044720"/>
            <a:ext cx="529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已知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≌△A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∠Ａ的对应角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9440" y="4508640"/>
            <a:ext cx="529272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已知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≌△D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的对应边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应角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62920" y="33526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1d0d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86600" y="38862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81680" y="2133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34320" y="5562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1600200"/>
            <a:ext cx="18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1d0d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f31d0d"/>
                </a:solidFill>
                <a:latin typeface="Times New Roman"/>
              </a:rPr>
              <a:t>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22880" y="6165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86600" y="5105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1d0d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22880" y="5589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1d0d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31d0d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44720" y="4762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填一填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7812000" y="638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24000" y="1628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如右图，已知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BD≌△ACE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且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=45°,AC = 8,AE = 5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 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  DC =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08000" y="44280"/>
            <a:ext cx="5310000" cy="1236960"/>
            <a:chOff x="108000" y="44280"/>
            <a:chExt cx="5310000" cy="1236960"/>
          </a:xfrm>
        </p:grpSpPr>
        <p:sp>
          <p:nvSpPr>
            <p:cNvPr id="359" name=""/>
            <p:cNvSpPr/>
            <p:nvPr/>
          </p:nvSpPr>
          <p:spPr>
            <a:xfrm>
              <a:off x="1548000" y="260280"/>
              <a:ext cx="387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拓展训练共提高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0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08000" y="44280"/>
              <a:ext cx="1554120" cy="123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"/>
          <p:cNvGrpSpPr/>
          <p:nvPr/>
        </p:nvGrpSpPr>
        <p:grpSpPr>
          <a:xfrm>
            <a:off x="5365800" y="3357720"/>
            <a:ext cx="3412800" cy="2108160"/>
            <a:chOff x="5365800" y="3357720"/>
            <a:chExt cx="3412800" cy="2108160"/>
          </a:xfrm>
        </p:grpSpPr>
        <p:grpSp>
          <p:nvGrpSpPr>
            <p:cNvPr id="362" name=""/>
            <p:cNvGrpSpPr/>
            <p:nvPr/>
          </p:nvGrpSpPr>
          <p:grpSpPr>
            <a:xfrm>
              <a:off x="5739840" y="3565800"/>
              <a:ext cx="2591640" cy="1427760"/>
              <a:chOff x="5739840" y="3565800"/>
              <a:chExt cx="2591640" cy="1427760"/>
            </a:xfrm>
          </p:grpSpPr>
          <p:sp>
            <p:nvSpPr>
              <p:cNvPr id="363" name=""/>
              <p:cNvSpPr/>
              <p:nvPr/>
            </p:nvSpPr>
            <p:spPr>
              <a:xfrm>
                <a:off x="5739840" y="4993560"/>
                <a:ext cx="259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5739840" y="3565800"/>
                <a:ext cx="1966320" cy="142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7526880" y="3565800"/>
                <a:ext cx="178920" cy="142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080480" y="3985560"/>
                <a:ext cx="1251000" cy="10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5365800" y="4945320"/>
              <a:ext cx="62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黑体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69760" y="4945320"/>
              <a:ext cx="62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黑体"/>
                  <a:ea typeface="黑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152920" y="4945320"/>
              <a:ext cx="62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黑体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13280" y="3357720"/>
              <a:ext cx="62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黑体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50200" y="3621960"/>
              <a:ext cx="62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黑体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443560" y="3071520"/>
            <a:ext cx="2216880" cy="1959480"/>
            <a:chOff x="5443560" y="3071520"/>
            <a:chExt cx="2216880" cy="1959480"/>
          </a:xfrm>
        </p:grpSpPr>
        <p:sp>
          <p:nvSpPr>
            <p:cNvPr id="373" name=""/>
            <p:cNvSpPr/>
            <p:nvPr/>
          </p:nvSpPr>
          <p:spPr>
            <a:xfrm rot="13851000">
              <a:off x="6255720" y="2862720"/>
              <a:ext cx="592200" cy="2376360"/>
            </a:xfrm>
            <a:custGeom>
              <a:avLst/>
              <a:gdLst>
                <a:gd name="textAreaLeft" fmla="*/ 0 w 592200"/>
                <a:gd name="textAreaRight" fmla="*/ 213840 w 59220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29560" y="3573360"/>
              <a:ext cx="57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795640" y="5013360"/>
            <a:ext cx="1657080" cy="541800"/>
            <a:chOff x="5795640" y="5013360"/>
            <a:chExt cx="1657080" cy="541800"/>
          </a:xfrm>
        </p:grpSpPr>
        <p:sp>
          <p:nvSpPr>
            <p:cNvPr id="376" name=""/>
            <p:cNvSpPr/>
            <p:nvPr/>
          </p:nvSpPr>
          <p:spPr>
            <a:xfrm rot="5400000">
              <a:off x="6516000" y="4292640"/>
              <a:ext cx="216000" cy="165708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48960" y="515628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6560" y="3997440"/>
            <a:ext cx="1446480" cy="1171440"/>
            <a:chOff x="5866560" y="3997440"/>
            <a:chExt cx="1446480" cy="1171440"/>
          </a:xfrm>
        </p:grpSpPr>
        <p:sp>
          <p:nvSpPr>
            <p:cNvPr id="379" name=""/>
            <p:cNvSpPr/>
            <p:nvPr/>
          </p:nvSpPr>
          <p:spPr>
            <a:xfrm rot="3218400">
              <a:off x="6445440" y="3790800"/>
              <a:ext cx="288360" cy="1584000"/>
            </a:xfrm>
            <a:custGeom>
              <a:avLst/>
              <a:gdLst>
                <a:gd name="textAreaLeft" fmla="*/ 0 w 288360"/>
                <a:gd name="textAreaRight" fmla="*/ 104040 w 28836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22120" y="4483440"/>
              <a:ext cx="55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268360" y="2781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270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32688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、请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 △AB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△B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对应点，如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=6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D=5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=7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那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长是（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cm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cm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cm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无法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上题中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对应角是（　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BC   (D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485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03280" y="2421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3440" y="3573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716360" y="4292640"/>
            <a:ext cx="3886200" cy="2059920"/>
            <a:chOff x="4716360" y="4292640"/>
            <a:chExt cx="3886200" cy="2059920"/>
          </a:xfrm>
        </p:grpSpPr>
        <p:grpSp>
          <p:nvGrpSpPr>
            <p:cNvPr id="389" name=""/>
            <p:cNvGrpSpPr/>
            <p:nvPr/>
          </p:nvGrpSpPr>
          <p:grpSpPr>
            <a:xfrm>
              <a:off x="4716360" y="4292640"/>
              <a:ext cx="3886200" cy="2059920"/>
              <a:chOff x="4716360" y="4292640"/>
              <a:chExt cx="3886200" cy="2059920"/>
            </a:xfrm>
          </p:grpSpPr>
          <p:sp>
            <p:nvSpPr>
              <p:cNvPr id="390" name=""/>
              <p:cNvSpPr/>
              <p:nvPr/>
            </p:nvSpPr>
            <p:spPr>
              <a:xfrm>
                <a:off x="5173560" y="4826160"/>
                <a:ext cx="2895480" cy="1218960"/>
              </a:xfrm>
              <a:prstGeom prst="rtTriangl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4716360" y="4292640"/>
                <a:ext cx="3886200" cy="2059920"/>
                <a:chOff x="4716360" y="4292640"/>
                <a:chExt cx="3886200" cy="2059920"/>
              </a:xfrm>
            </p:grpSpPr>
            <p:sp>
              <p:nvSpPr>
                <p:cNvPr id="392" name=""/>
                <p:cNvSpPr/>
                <p:nvPr/>
              </p:nvSpPr>
              <p:spPr>
                <a:xfrm flipH="1">
                  <a:off x="5172840" y="4826160"/>
                  <a:ext cx="2971800" cy="1218960"/>
                </a:xfrm>
                <a:prstGeom prst="rtTriangle">
                  <a:avLst/>
                </a:prstGeom>
                <a:solidFill>
                  <a:srgbClr val="99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716360" y="589284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868640" y="444492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069040" y="429264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221680" y="589284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7" name=""/>
            <p:cNvSpPr/>
            <p:nvPr/>
          </p:nvSpPr>
          <p:spPr>
            <a:xfrm>
              <a:off x="6661080" y="5445000"/>
              <a:ext cx="1511280" cy="57636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>
            <a:hlinkClick r:id="rId1" action="ppaction://hlinksldjump"/>
          </p:cNvPr>
          <p:cNvSpPr/>
          <p:nvPr/>
        </p:nvSpPr>
        <p:spPr>
          <a:xfrm>
            <a:off x="7812000" y="638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08000" y="-92160"/>
            <a:ext cx="5310000" cy="1228680"/>
            <a:chOff x="108000" y="-92160"/>
            <a:chExt cx="5310000" cy="1228680"/>
          </a:xfrm>
        </p:grpSpPr>
        <p:sp>
          <p:nvSpPr>
            <p:cNvPr id="400" name=""/>
            <p:cNvSpPr/>
            <p:nvPr/>
          </p:nvSpPr>
          <p:spPr>
            <a:xfrm>
              <a:off x="1548000" y="122400"/>
              <a:ext cx="387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拓展训练共提高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08000" y="-92160"/>
              <a:ext cx="1554120" cy="1228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3868560"/>
            <a:ext cx="3276720" cy="2227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57800" y="3581280"/>
            <a:ext cx="3200400" cy="258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14400" y="1295280"/>
            <a:ext cx="3276720" cy="2227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257800" y="1066680"/>
            <a:ext cx="3200400" cy="2584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04920" y="228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华文行楷"/>
              </a:rPr>
              <a:t>请欣赏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华文行楷"/>
              <a:ea typeface="华文行楷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85800" y="8380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华文行楷"/>
              </a:rPr>
              <a:t>请欣赏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华文行楷"/>
              <a:ea typeface="华文行楷"/>
            </a:endParaRPr>
          </a:p>
        </p:txBody>
      </p:sp>
    </p:spTree>
  </p:cSld>
  <p:transition spd="med" advTm="1000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52480" y="170172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7560" y="177336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5560" y="177336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619280" y="0"/>
            <a:ext cx="30160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火眼金睛辨图形</a:t>
            </a:r>
            <a:endParaRPr b="0" lang="en-US" sz="24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380880"/>
            <a:ext cx="1554120" cy="1228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836640"/>
            <a:ext cx="92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下列图形中形状、大小相同的图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692360" y="1341360"/>
            <a:ext cx="1297080" cy="1413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4360" y="2852640"/>
            <a:ext cx="7272360" cy="381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1917720"/>
            <a:ext cx="914400" cy="91440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619280" y="3141720"/>
            <a:ext cx="1297080" cy="1412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 rot="19620000">
            <a:off x="6084720" y="5013000"/>
            <a:ext cx="1297080" cy="141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3348000" y="5013360"/>
            <a:ext cx="1008000" cy="1098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8000" y="1628640"/>
            <a:ext cx="80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653000"/>
            <a:ext cx="80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0860000">
            <a:off x="3923640" y="3281400"/>
            <a:ext cx="80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219640" y="5229360"/>
            <a:ext cx="216000" cy="13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F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39" name=""/>
          <p:cNvSpPr/>
          <p:nvPr/>
        </p:nvSpPr>
        <p:spPr>
          <a:xfrm>
            <a:off x="7164360" y="1628640"/>
            <a:ext cx="1143000" cy="8384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9080" y="3573360"/>
            <a:ext cx="720720" cy="936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560000">
            <a:off x="1834920" y="5302080"/>
            <a:ext cx="1143000" cy="8384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3080" y="35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1bc3"/>
                </a:solidFill>
                <a:latin typeface="Arial"/>
                <a:ea typeface="黑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3080" y="45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1bc3"/>
                </a:solidFill>
                <a:latin typeface="Arial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21080" y="364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1bc3"/>
                </a:solidFill>
                <a:latin typeface="Arial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7080" y="3645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1bc3"/>
                </a:solidFill>
                <a:latin typeface="Arial"/>
                <a:ea typeface="黑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6360" y="5157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1bc3"/>
                </a:solidFill>
                <a:latin typeface="Arial"/>
                <a:ea typeface="黑体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01080" y="501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1bc3"/>
                </a:solidFill>
                <a:latin typeface="Arial"/>
                <a:ea typeface="黑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8000" y="49417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1bc3"/>
                </a:solidFill>
                <a:latin typeface="Arial"/>
                <a:ea typeface="黑体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20720" y="501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1bc3"/>
                </a:solidFill>
                <a:latin typeface="Arial"/>
                <a:ea typeface="黑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2637000"/>
            <a:ext cx="144360" cy="86508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65280" y="2765520"/>
            <a:ext cx="4050000" cy="268128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476360" y="2567160"/>
            <a:ext cx="3456000" cy="23745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571640" y="2565360"/>
            <a:ext cx="360360" cy="792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556000" y="2565360"/>
            <a:ext cx="4752720" cy="2808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96360" y="3502080"/>
            <a:ext cx="1296720" cy="21589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17524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像前面这些能完全重合的图形叫做</a:t>
            </a:r>
            <a:r>
              <a:rPr b="1" lang="zh-CN" sz="4000" spc="-1" strike="noStrike">
                <a:solidFill>
                  <a:srgbClr val="3333ff"/>
                </a:solidFill>
                <a:latin typeface="隶书"/>
                <a:ea typeface="隶书"/>
              </a:rPr>
              <a:t>全等图形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(</a:t>
            </a:r>
            <a:r>
              <a:rPr b="1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congruent figur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7339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如果两个图形全等，它们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形状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大小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都相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981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67640" y="386064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45720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1187280" y="2421000"/>
            <a:ext cx="3240000" cy="1742040"/>
            <a:chOff x="1187280" y="2421000"/>
            <a:chExt cx="3240000" cy="1742040"/>
          </a:xfrm>
        </p:grpSpPr>
        <p:grpSp>
          <p:nvGrpSpPr>
            <p:cNvPr id="162" name=""/>
            <p:cNvGrpSpPr/>
            <p:nvPr/>
          </p:nvGrpSpPr>
          <p:grpSpPr>
            <a:xfrm>
              <a:off x="1547640" y="2750400"/>
              <a:ext cx="2374920" cy="1099800"/>
              <a:chOff x="1547640" y="2750400"/>
              <a:chExt cx="2374920" cy="109980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1547640" y="2750400"/>
                <a:ext cx="1440000" cy="1099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47640" y="3850200"/>
                <a:ext cx="237492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87640" y="2750400"/>
                <a:ext cx="934920" cy="10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2771640" y="2421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87280" y="3740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95640" y="37947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716360" y="2421000"/>
            <a:ext cx="3168720" cy="1728720"/>
            <a:chOff x="4716360" y="2421000"/>
            <a:chExt cx="3168720" cy="1728720"/>
          </a:xfrm>
        </p:grpSpPr>
        <p:grpSp>
          <p:nvGrpSpPr>
            <p:cNvPr id="170" name=""/>
            <p:cNvGrpSpPr/>
            <p:nvPr/>
          </p:nvGrpSpPr>
          <p:grpSpPr>
            <a:xfrm>
              <a:off x="4933800" y="2692800"/>
              <a:ext cx="2374920" cy="1087200"/>
              <a:chOff x="4933800" y="2692800"/>
              <a:chExt cx="2374920" cy="1087200"/>
            </a:xfrm>
          </p:grpSpPr>
          <p:sp>
            <p:nvSpPr>
              <p:cNvPr id="171" name=""/>
              <p:cNvSpPr/>
              <p:nvPr/>
            </p:nvSpPr>
            <p:spPr>
              <a:xfrm flipH="1">
                <a:off x="4933800" y="2692800"/>
                <a:ext cx="1440000" cy="1087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933800" y="3780000"/>
                <a:ext cx="237492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73800" y="2692800"/>
                <a:ext cx="934920" cy="108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716360" y="3781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9080" y="2421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53080" y="37238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52360" y="1268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能够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完全重合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的两个三角形</a:t>
            </a:r>
            <a:r>
              <a:rPr b="1" lang="en-US" sz="3600" spc="-1" strike="noStrike">
                <a:solidFill>
                  <a:srgbClr val="3366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叫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917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全等三角形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716360" y="2421000"/>
            <a:ext cx="3168720" cy="1728720"/>
            <a:chOff x="4716360" y="2421000"/>
            <a:chExt cx="3168720" cy="1728720"/>
          </a:xfrm>
        </p:grpSpPr>
        <p:grpSp>
          <p:nvGrpSpPr>
            <p:cNvPr id="180" name=""/>
            <p:cNvGrpSpPr/>
            <p:nvPr/>
          </p:nvGrpSpPr>
          <p:grpSpPr>
            <a:xfrm>
              <a:off x="4933800" y="2692800"/>
              <a:ext cx="2374920" cy="1087200"/>
              <a:chOff x="4933800" y="2692800"/>
              <a:chExt cx="2374920" cy="1087200"/>
            </a:xfrm>
          </p:grpSpPr>
          <p:sp>
            <p:nvSpPr>
              <p:cNvPr id="181" name=""/>
              <p:cNvSpPr/>
              <p:nvPr/>
            </p:nvSpPr>
            <p:spPr>
              <a:xfrm flipH="1">
                <a:off x="4933800" y="2692800"/>
                <a:ext cx="1440000" cy="1087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33800" y="3780000"/>
                <a:ext cx="237492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3800" y="2692800"/>
                <a:ext cx="934920" cy="108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716360" y="3781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29080" y="2421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53080" y="37238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24000" y="4437000"/>
            <a:ext cx="52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两个全等的三角形重叠到一起时，重合的顶点叫做</a:t>
            </a:r>
            <a:r>
              <a:rPr b="1" lang="zh-CN" sz="2800" spc="-1" strike="noStrike">
                <a:solidFill>
                  <a:srgbClr val="f31d0d"/>
                </a:solidFill>
                <a:latin typeface="Times New Roman"/>
              </a:rPr>
              <a:t>对应顶点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合的边叫做</a:t>
            </a:r>
            <a:r>
              <a:rPr b="1" lang="zh-CN" sz="2800" spc="-1" strike="noStrike">
                <a:solidFill>
                  <a:srgbClr val="f31d0d"/>
                </a:solidFill>
                <a:latin typeface="Times New Roman"/>
              </a:rPr>
              <a:t>对应边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合的角叫做</a:t>
            </a:r>
            <a:r>
              <a:rPr b="1" lang="zh-CN" sz="2800" spc="-1" strike="noStrike">
                <a:solidFill>
                  <a:srgbClr val="f31d0d"/>
                </a:solidFill>
                <a:latin typeface="Times New Roman"/>
              </a:rPr>
              <a:t>对应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4292640"/>
            <a:ext cx="3889440" cy="2276280"/>
          </a:xfrm>
          <a:prstGeom prst="cloudCallout">
            <a:avLst>
              <a:gd name="adj1" fmla="val -79634"/>
              <a:gd name="adj2" fmla="val -615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你能指出上面两个全等三角形的对应顶点、对应边、对应角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36520"/>
            <a:ext cx="155412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-0.37014 0.01041 E">
                                      <p:cBhvr>
                                        <p:cTn id="97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116000" y="620640"/>
            <a:ext cx="3240000" cy="1742400"/>
            <a:chOff x="1116000" y="620640"/>
            <a:chExt cx="3240000" cy="1742400"/>
          </a:xfrm>
        </p:grpSpPr>
        <p:grpSp>
          <p:nvGrpSpPr>
            <p:cNvPr id="191" name=""/>
            <p:cNvGrpSpPr/>
            <p:nvPr/>
          </p:nvGrpSpPr>
          <p:grpSpPr>
            <a:xfrm>
              <a:off x="1476360" y="950400"/>
              <a:ext cx="2374920" cy="1100160"/>
              <a:chOff x="1476360" y="950400"/>
              <a:chExt cx="2374920" cy="1100160"/>
            </a:xfrm>
          </p:grpSpPr>
          <p:sp>
            <p:nvSpPr>
              <p:cNvPr id="192" name=""/>
              <p:cNvSpPr/>
              <p:nvPr/>
            </p:nvSpPr>
            <p:spPr>
              <a:xfrm flipH="1">
                <a:off x="1476360" y="950400"/>
                <a:ext cx="1440000" cy="1100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76360" y="2050560"/>
                <a:ext cx="237492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916360" y="950400"/>
                <a:ext cx="934920" cy="1100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700360" y="620640"/>
              <a:ext cx="3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16000" y="1940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24360" y="19947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572000" y="692280"/>
            <a:ext cx="3168720" cy="1728360"/>
            <a:chOff x="4572000" y="692280"/>
            <a:chExt cx="3168720" cy="1728360"/>
          </a:xfrm>
        </p:grpSpPr>
        <p:grpSp>
          <p:nvGrpSpPr>
            <p:cNvPr id="199" name=""/>
            <p:cNvGrpSpPr/>
            <p:nvPr/>
          </p:nvGrpSpPr>
          <p:grpSpPr>
            <a:xfrm>
              <a:off x="4789440" y="964080"/>
              <a:ext cx="2374920" cy="1086840"/>
              <a:chOff x="4789440" y="964080"/>
              <a:chExt cx="2374920" cy="1086840"/>
            </a:xfrm>
          </p:grpSpPr>
          <p:sp>
            <p:nvSpPr>
              <p:cNvPr id="200" name=""/>
              <p:cNvSpPr/>
              <p:nvPr/>
            </p:nvSpPr>
            <p:spPr>
              <a:xfrm flipH="1">
                <a:off x="4789440" y="964080"/>
                <a:ext cx="1440000" cy="1086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89440" y="2050920"/>
                <a:ext cx="237492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229440" y="964080"/>
                <a:ext cx="934920" cy="1086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572000" y="2052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84720" y="692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08720" y="19962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-390600" y="3286080"/>
            <a:ext cx="95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等”用符号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≌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图中的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2565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全等三角形的表示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443700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30240" y="4076640"/>
            <a:ext cx="118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作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≌ △D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读作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等于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373720"/>
            <a:ext cx="183528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76360" y="5157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记两个三角形全等时，通常把表示对应顶点的字母写在对应的位置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499.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45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5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6" autoRev="1" fill="hold">
                                          <p:stCondLst>
                                            <p:cond delay="45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36" fill="hold">
                                          <p:stCondLst>
                                            <p:cond delay="863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4545360" y="3386160"/>
            <a:ext cx="1781280" cy="2565720"/>
            <a:chOff x="4545360" y="3386160"/>
            <a:chExt cx="1781280" cy="2565720"/>
          </a:xfrm>
        </p:grpSpPr>
        <p:sp>
          <p:nvSpPr>
            <p:cNvPr id="213" name=""/>
            <p:cNvSpPr/>
            <p:nvPr/>
          </p:nvSpPr>
          <p:spPr>
            <a:xfrm>
              <a:off x="5022720" y="5553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36440" y="3386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 rot="7833000">
              <a:off x="4571640" y="4201200"/>
              <a:ext cx="1728720" cy="865080"/>
            </a:xfrm>
            <a:prstGeom prst="rtTriangle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V="1" rot="7833000">
            <a:off x="4571640" y="4195440"/>
            <a:ext cx="1729080" cy="865080"/>
          </a:xfrm>
          <a:prstGeom prst="rtTriangl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142320" y="3459240"/>
            <a:ext cx="1956960" cy="2462760"/>
            <a:chOff x="6142320" y="3459240"/>
            <a:chExt cx="1956960" cy="2462760"/>
          </a:xfrm>
        </p:grpSpPr>
        <p:sp>
          <p:nvSpPr>
            <p:cNvPr id="218" name=""/>
            <p:cNvSpPr/>
            <p:nvPr/>
          </p:nvSpPr>
          <p:spPr>
            <a:xfrm>
              <a:off x="7001280" y="3459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42320" y="42991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14400" y="55231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 rot="13767000">
              <a:off x="6342480" y="4193280"/>
              <a:ext cx="1728720" cy="868320"/>
            </a:xfrm>
            <a:prstGeom prst="rtTriangl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H="1" flipV="1" rot="13767000">
            <a:off x="6345000" y="4201200"/>
            <a:ext cx="1728720" cy="865080"/>
          </a:xfrm>
          <a:prstGeom prst="rtTriangl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366280" y="3743280"/>
            <a:ext cx="1953000" cy="1838880"/>
            <a:chOff x="2366280" y="3743280"/>
            <a:chExt cx="1953000" cy="1838880"/>
          </a:xfrm>
        </p:grpSpPr>
        <p:sp>
          <p:nvSpPr>
            <p:cNvPr id="224" name=""/>
            <p:cNvSpPr/>
            <p:nvPr/>
          </p:nvSpPr>
          <p:spPr>
            <a:xfrm>
              <a:off x="2449440" y="5183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 rot="20532000">
              <a:off x="2457000" y="4125960"/>
              <a:ext cx="1729080" cy="865080"/>
            </a:xfrm>
            <a:prstGeom prst="rtTriangl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54240" y="3743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68360" y="3238560"/>
            <a:ext cx="2057400" cy="1875240"/>
            <a:chOff x="468360" y="3238560"/>
            <a:chExt cx="2057400" cy="1875240"/>
          </a:xfrm>
        </p:grpSpPr>
        <p:sp>
          <p:nvSpPr>
            <p:cNvPr id="228" name=""/>
            <p:cNvSpPr/>
            <p:nvPr/>
          </p:nvSpPr>
          <p:spPr>
            <a:xfrm>
              <a:off x="2147040" y="4390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25360" y="3238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8360" y="4714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 rot="9760800">
              <a:off x="581760" y="3826800"/>
              <a:ext cx="1695240" cy="863640"/>
            </a:xfrm>
            <a:prstGeom prst="rtTriangl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61880" y="45878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86000" y="3597480"/>
            <a:ext cx="3780720" cy="1618200"/>
            <a:chOff x="486000" y="3597480"/>
            <a:chExt cx="3780720" cy="1618200"/>
          </a:xfrm>
        </p:grpSpPr>
        <p:sp>
          <p:nvSpPr>
            <p:cNvPr id="234" name=""/>
            <p:cNvSpPr/>
            <p:nvPr/>
          </p:nvSpPr>
          <p:spPr>
            <a:xfrm flipV="1" rot="9760800">
              <a:off x="575640" y="3830040"/>
              <a:ext cx="1695240" cy="863640"/>
            </a:xfrm>
            <a:prstGeom prst="rtTriangl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 rot="20560800">
              <a:off x="2481480" y="4119120"/>
              <a:ext cx="1695240" cy="8636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03388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58120" y="162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" y="15177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全等符号表示下列全等三角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指出对应的顶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应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应角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00000" y="333360"/>
            <a:ext cx="3384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试一试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0" name=""/>
          <p:cNvSpPr/>
          <p:nvPr/>
        </p:nvSpPr>
        <p:spPr>
          <a:xfrm>
            <a:off x="828720" y="5373720"/>
            <a:ext cx="6838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发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全等三角形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应边相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等三角形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应角相等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01080" y="2205000"/>
            <a:ext cx="1942920" cy="2017800"/>
            <a:chOff x="7201080" y="2205000"/>
            <a:chExt cx="1942920" cy="2017800"/>
          </a:xfrm>
        </p:grpSpPr>
        <p:sp>
          <p:nvSpPr>
            <p:cNvPr id="242" name=""/>
            <p:cNvSpPr/>
            <p:nvPr/>
          </p:nvSpPr>
          <p:spPr>
            <a:xfrm>
              <a:off x="7201080" y="2205000"/>
              <a:ext cx="1942920" cy="2017800"/>
            </a:xfrm>
            <a:prstGeom prst="cloudCallout">
              <a:avLst>
                <a:gd name="adj1" fmla="val -83967"/>
                <a:gd name="adj2" fmla="val 121189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37320" y="2449080"/>
              <a:ext cx="1606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71bc3"/>
                  </a:solidFill>
                  <a:latin typeface="Arial"/>
                  <a:ea typeface="黑体"/>
                </a:rPr>
                <a:t>全等三角形的性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5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963440" y="40464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99"/>
                </a:solidFill>
                <a:latin typeface="Arial"/>
                <a:ea typeface="隶书"/>
              </a:rPr>
              <a:t>全等三角形性质的几何语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55640" y="1413000"/>
            <a:ext cx="3240000" cy="1742040"/>
            <a:chOff x="755640" y="1413000"/>
            <a:chExt cx="3240000" cy="1742040"/>
          </a:xfrm>
        </p:grpSpPr>
        <p:grpSp>
          <p:nvGrpSpPr>
            <p:cNvPr id="246" name=""/>
            <p:cNvGrpSpPr/>
            <p:nvPr/>
          </p:nvGrpSpPr>
          <p:grpSpPr>
            <a:xfrm>
              <a:off x="1116000" y="1742400"/>
              <a:ext cx="2374920" cy="1099800"/>
              <a:chOff x="1116000" y="1742400"/>
              <a:chExt cx="2374920" cy="1099800"/>
            </a:xfrm>
          </p:grpSpPr>
          <p:sp>
            <p:nvSpPr>
              <p:cNvPr id="247" name=""/>
              <p:cNvSpPr/>
              <p:nvPr/>
            </p:nvSpPr>
            <p:spPr>
              <a:xfrm flipH="1">
                <a:off x="1116000" y="1742400"/>
                <a:ext cx="1440000" cy="1099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16000" y="2842200"/>
                <a:ext cx="237492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556000" y="1742400"/>
                <a:ext cx="934920" cy="10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340000" y="1413000"/>
              <a:ext cx="3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5640" y="2732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64000" y="27867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859280" y="1341360"/>
            <a:ext cx="3168720" cy="1728720"/>
            <a:chOff x="4859280" y="1341360"/>
            <a:chExt cx="3168720" cy="1728720"/>
          </a:xfrm>
        </p:grpSpPr>
        <p:grpSp>
          <p:nvGrpSpPr>
            <p:cNvPr id="254" name=""/>
            <p:cNvGrpSpPr/>
            <p:nvPr/>
          </p:nvGrpSpPr>
          <p:grpSpPr>
            <a:xfrm>
              <a:off x="5076720" y="1613160"/>
              <a:ext cx="2374920" cy="1087200"/>
              <a:chOff x="5076720" y="1613160"/>
              <a:chExt cx="2374920" cy="1087200"/>
            </a:xfrm>
          </p:grpSpPr>
          <p:sp>
            <p:nvSpPr>
              <p:cNvPr id="255" name=""/>
              <p:cNvSpPr/>
              <p:nvPr/>
            </p:nvSpPr>
            <p:spPr>
              <a:xfrm flipH="1">
                <a:off x="5076720" y="1613160"/>
                <a:ext cx="1440000" cy="1087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76720" y="2700360"/>
                <a:ext cx="237492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16720" y="1613160"/>
                <a:ext cx="934920" cy="108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4859280" y="27018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72000" y="1341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96000" y="2645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055160" y="3716280"/>
            <a:ext cx="30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∵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≌△DEF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43200" y="4365720"/>
            <a:ext cx="581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=DE, AC=DF,BC=EF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全等三角形对应边相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81000" y="5013360"/>
            <a:ext cx="61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∠D, ∠B=∠E, ∠C=∠F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全等三角形对应角相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886880" y="6357960"/>
            <a:ext cx="125712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12999.com</a:t>
            </a:r>
            <a:endParaRPr b="0" lang="en-US" sz="1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9-10T07:27:54Z</dcterms:modified>
  <cp:revision>104</cp:revision>
  <dc:subject/>
  <dc:title>PowerPoint Presentation</dc:title>
</cp:coreProperties>
</file>